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E94B-3AC3-4821-9EBB-2AC30B31F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eaturepics.com/online/Green-Plants-Background-1387747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.unm.edu/ccouncil/Biology_203/Summaries/FloweringPlant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uperstaar.org/grade-2/life-science/210-adaptations-and-life-cycles/210b-characteristics-of-plants/water-movement-in-plant-ste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isglory.com/photos2/Green%20Leav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.lifeeasy.org/810/what-is-the-difference-between-simple-leaf-and-compound-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bc.co.uk/bitesize/standard/biology/world_of_plants/making_food/revision/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hite spruce from: http://simple.wikipedia.org/wiki/Gymn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onut leaves used for roofing in Sri Lanka.  Image from: http://blog.trekurious.com/coconut-and-its-many-us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uperstaar.org/grade-2/life-science/210-adaptations-and-life-cycles/210b-characteristics-of-plants/water-movement-in-plant-ste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allpaperswide.com/bamboo_stems-wallpap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howstuffworks.com/dictionary/plant-terms/stem-info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7484-B85D-4769-A3AA-75E15AEE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B799-C334-4180-9D3C-4054CEE1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CEC2-9E24-4E92-9A71-2A66D0D5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E0E0-8641-443A-A39C-B054B654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FAF-D5C9-49DB-8529-BB21EF25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540-EC30-4192-9724-95F85BEB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115-D996-4A63-8C38-67D5133B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AB8-021D-4267-BA02-543C670B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9B5-9CA2-4C59-A542-E3778B77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7B3-925A-4401-ACD8-4FF80024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80DC-B3FE-4626-8024-AF7228BB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09BF-F5DC-4697-8295-B1B59531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EFE3-3DCA-4A2A-912D-0897494BF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t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ves &amp; 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cot vs. Eudicot 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932120"/>
            <a:ext cx="853416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 Specia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0" y="167616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ground stems (tubers, corms, rhizomes) store water and starch &amp; help with 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-based products (furniture, paper, etc.) &amp; wood for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 (firewood, bio-ethanol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(potatoes, asparagus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iles (linen, hemp, bamboo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site of photosynthesis in most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 exchange between interior of plant and extern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2055960"/>
            <a:ext cx="42670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of 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36920" y="1981080"/>
            <a:ext cx="4070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52560" y="609480"/>
            <a:ext cx="7237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f Specia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on of plants through physical or chemical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ymnosperm leaves specialized to prevents cells from fr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11480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&amp; beverages, e.g., various herb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mellia sinen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x (from cuticle) used in cosmetic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ns &amp; psychotropic chemicals used in medicin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938840" y="1523880"/>
            <a:ext cx="3305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vascular tissue in leaves to vascular tissue i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other structures o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343400" y="2558880"/>
            <a:ext cx="45720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baceous vs. Wo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11280" y="1981080"/>
            <a:ext cx="4319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13:46:10Z</dcterms:created>
  <dc:creator>rubina khan</dc:creator>
  <dc:description/>
  <dc:language>en-US</dc:language>
  <cp:lastModifiedBy>rubina khan</cp:lastModifiedBy>
  <dcterms:modified xsi:type="dcterms:W3CDTF">2015-02-26T14:22:41Z</dcterms:modified>
  <cp:revision>74</cp:revision>
  <dc:subject/>
  <dc:title>PowerPoint Presentation</dc:title>
</cp:coreProperties>
</file>